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507-F381-40EE-BF2A-F1F5E45D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D0E-42FD-49F8-99FC-1E9AD99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B22-B716-4694-8AAD-6A0C9A74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252-61AE-4708-93B8-0BA22652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0FC-0580-41D2-B93E-57D5B5F8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75E-04E6-4AF6-B631-022C3DE9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565-A61A-4113-AD85-7B53AD61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12A-58F4-4530-B115-88BBF161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CCD-65E8-4FB1-A3F8-09F8083B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32A-1F01-4E75-920F-FC16B87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892-6CE0-4F91-A7F3-042021C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5AC-DF17-4A2D-ADD9-5E667045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6EE9-3096-4726-972C-31692D1C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05320"/>
            <a:ext cx="434340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0"/>
            <a:ext cx="480060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05320"/>
            <a:ext cx="480060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1752480"/>
            <a:ext cx="2971800" cy="2743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6095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133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3434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nipu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19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g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334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80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09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657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590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685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286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3733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52388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 Respon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685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ethean/ Smart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3276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2209680" y="3276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924360" y="47624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3924360" y="11048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172200"/>
            <a:ext cx="2361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0"/>
            <a:ext cx="2590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19520"/>
            <a:ext cx="1981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8195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knowledge   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knowledge  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52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685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6:51:45Z</dcterms:created>
  <dc:creator>jacie.maslyk</dc:creator>
  <dc:description/>
  <dc:language>en-US</dc:language>
  <cp:lastModifiedBy>jacie.maslyk</cp:lastModifiedBy>
  <dcterms:modified xsi:type="dcterms:W3CDTF">2011-07-25T17:35:48Z</dcterms:modified>
  <cp:revision>6</cp:revision>
  <dc:subject/>
  <dc:title>Slide 1</dc:title>
</cp:coreProperties>
</file>